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C8C-67F6-4FA6-B68C-B8B3016B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B1F-C942-496D-B459-F62FC653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7E1-F5D7-4310-8374-A51FFD91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BCD-B77D-4B74-B77B-144E7224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6B3-9452-4BD2-A361-8A014EC2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B05-D3CD-420B-B1D4-1FCEC840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791-861E-4FA8-984E-5C357EEC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A9C-A210-47CE-893C-2BDFE32D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778-83E0-4EFB-A40C-A9192D76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B5D-6E37-49E7-9661-F6FA600E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FE1-9A0A-46D9-816B-AAE36102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A3D-C13D-4C45-8A7E-9715D5C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DD3B-613C-49C3-A349-346E2BED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5329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крепление          изученного материала.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Употребление  глаголов в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40000" y="4508640"/>
            <a:ext cx="4625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Ушахина Гал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ОУ «СОШ № 2 г. Ос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79640" y="549360"/>
            <a:ext cx="246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сский язык</a:t>
            </a:r>
            <a:endParaRPr b="1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 класс</a:t>
            </a:r>
            <a:endParaRPr b="1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86868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Картин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68360" y="765000"/>
            <a:ext cx="417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точники:</a:t>
            </a:r>
            <a:endParaRPr b="1" lang="en-US" sz="1800" spc="1" strike="noStrike">
              <a:ln w="25560">
                <a:solidFill>
                  <a:srgbClr val="cc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8000" y="1700280"/>
            <a:ext cx="59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Зеленеет даль по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Запевает солов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белый цвет оделся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чёлы первые ле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Гром грохо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гадай, что за месяц это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5013360"/>
            <a:ext cx="165600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й</a:t>
            </a:r>
            <a:endParaRPr b="1" lang="en-US" sz="1800" spc="1" strike="noStrike">
              <a:ln w="25560">
                <a:solidFill>
                  <a:srgbClr val="cc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53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1341360"/>
            <a:ext cx="792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Зеленеет даль поле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Запевает солов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В белый цвет оделся сад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Пчёлы первые летя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Гром грохоч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42920" y="2060640"/>
            <a:ext cx="2592360" cy="144360"/>
            <a:chOff x="1042920" y="2060640"/>
            <a:chExt cx="2592360" cy="144360"/>
          </a:xfrm>
        </p:grpSpPr>
        <p:sp>
          <p:nvSpPr>
            <p:cNvPr id="50" name=""/>
            <p:cNvSpPr/>
            <p:nvPr/>
          </p:nvSpPr>
          <p:spPr>
            <a:xfrm>
              <a:off x="1042920" y="2060640"/>
              <a:ext cx="25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42920" y="2205000"/>
              <a:ext cx="25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042920" y="2781360"/>
            <a:ext cx="2592360" cy="144360"/>
            <a:chOff x="1042920" y="2781360"/>
            <a:chExt cx="2592360" cy="144360"/>
          </a:xfrm>
        </p:grpSpPr>
        <p:sp>
          <p:nvSpPr>
            <p:cNvPr id="53" name=""/>
            <p:cNvSpPr/>
            <p:nvPr/>
          </p:nvSpPr>
          <p:spPr>
            <a:xfrm>
              <a:off x="1042920" y="2781360"/>
              <a:ext cx="25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42920" y="2925720"/>
              <a:ext cx="259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76720" y="3500280"/>
            <a:ext cx="1943280" cy="144360"/>
            <a:chOff x="5076720" y="3500280"/>
            <a:chExt cx="1943280" cy="144360"/>
          </a:xfrm>
        </p:grpSpPr>
        <p:sp>
          <p:nvSpPr>
            <p:cNvPr id="56" name=""/>
            <p:cNvSpPr/>
            <p:nvPr/>
          </p:nvSpPr>
          <p:spPr>
            <a:xfrm>
              <a:off x="5076720" y="3500280"/>
              <a:ext cx="194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076720" y="3644640"/>
              <a:ext cx="194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364000" y="4221000"/>
            <a:ext cx="1584360" cy="144360"/>
            <a:chOff x="5364000" y="4221000"/>
            <a:chExt cx="1584360" cy="144360"/>
          </a:xfrm>
        </p:grpSpPr>
        <p:sp>
          <p:nvSpPr>
            <p:cNvPr id="59" name=""/>
            <p:cNvSpPr/>
            <p:nvPr/>
          </p:nvSpPr>
          <p:spPr>
            <a:xfrm>
              <a:off x="5364000" y="4221000"/>
              <a:ext cx="158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64000" y="4365360"/>
              <a:ext cx="158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700360" y="5084640"/>
            <a:ext cx="2448000" cy="144360"/>
            <a:chOff x="2700360" y="5084640"/>
            <a:chExt cx="2448000" cy="144360"/>
          </a:xfrm>
        </p:grpSpPr>
        <p:sp>
          <p:nvSpPr>
            <p:cNvPr id="62" name=""/>
            <p:cNvSpPr/>
            <p:nvPr/>
          </p:nvSpPr>
          <p:spPr>
            <a:xfrm>
              <a:off x="2700360" y="5084640"/>
              <a:ext cx="244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00360" y="5229000"/>
              <a:ext cx="2448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91628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Что сделал ?) месяц май. Солнце и тёплый ветер (что делают ?) землю. На деревьях (что делает ?) листва. Ско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что сделают ?) черёмуха и ябло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Что делает ?) песня сол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84360" y="692280"/>
            <a:ext cx="4176720" cy="6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ставь рассказ.</a:t>
            </a:r>
            <a:endParaRPr b="1" lang="en-US" sz="1800" spc="1" strike="noStrike">
              <a:ln w="25560">
                <a:solidFill>
                  <a:srgbClr val="cc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98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Наступи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месяц май. Солнце и тёп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ете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грею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емлю. На деревья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распу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скае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иства. Скор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зацвету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черёму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ха и яблоня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Льё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есня сол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486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Определите время глаго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700360" y="692280"/>
            <a:ext cx="331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иши текст.</a:t>
            </a:r>
            <a:endParaRPr b="1" lang="en-US" sz="1800" spc="1" strike="noStrike">
              <a:ln w="25560">
                <a:solidFill>
                  <a:srgbClr val="cc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88000" y="2133360"/>
            <a:ext cx="38275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емья скворцов за день уничтожает 350 гусениц, жуков, ули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38480" cy="4537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2771640" y="476280"/>
            <a:ext cx="36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ете ли вы?</a:t>
            </a:r>
            <a:endParaRPr b="1" lang="en-US" sz="1800" spc="1" strike="noStrike">
              <a:ln w="25560">
                <a:solidFill>
                  <a:srgbClr val="cc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00720" y="2349000"/>
            <a:ext cx="4140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укушка поедает за лето до 270 000 гусениц и майских жу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82920" cy="4608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74" name=""/>
          <p:cNvSpPr txBox="1"/>
          <p:nvPr/>
        </p:nvSpPr>
        <p:spPr>
          <a:xfrm>
            <a:off x="2771640" y="476280"/>
            <a:ext cx="36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ете ли вы?</a:t>
            </a:r>
            <a:endParaRPr b="1" lang="en-US" sz="1800" spc="1" strike="noStrike">
              <a:ln w="25560">
                <a:solidFill>
                  <a:srgbClr val="cc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559640" cy="5381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6" name=""/>
          <p:cNvSpPr txBox="1"/>
          <p:nvPr/>
        </p:nvSpPr>
        <p:spPr>
          <a:xfrm>
            <a:off x="755640" y="333360"/>
            <a:ext cx="756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юбите родную природу!</a:t>
            </a:r>
            <a:endParaRPr b="1" lang="en-US" sz="1800" spc="1" strike="noStrike">
              <a:ln w="25560">
                <a:solidFill>
                  <a:srgbClr val="cc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86868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оставить и записать рассказ на тему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«Матушка - весна – всем красна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68360" y="692280"/>
            <a:ext cx="460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cc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омашнее задание</a:t>
            </a:r>
            <a:endParaRPr b="1" lang="en-US" sz="1800" spc="1" strike="noStrike">
              <a:ln w="25560">
                <a:solidFill>
                  <a:srgbClr val="cc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4:24:08Z</dcterms:created>
  <dc:creator>Ушахина Галина Алексеевна</dc:creator>
  <dc:description/>
  <dc:language>en-US</dc:language>
  <cp:lastModifiedBy>Vlad</cp:lastModifiedBy>
  <dcterms:modified xsi:type="dcterms:W3CDTF">2010-04-28T19:35:26Z</dcterms:modified>
  <cp:revision>14</cp:revision>
  <dc:subject>Русский язык 3 класс</dc:subject>
  <dc:title>Закрепление. Употребление глаголов в речи.</dc:title>
</cp:coreProperties>
</file>